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2283-35DF-4817-8C80-8C899EC3D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6E4D-D4DD-480E-9B09-43D9A2D3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1641-160D-472E-80A4-BB682F651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8BB3-F0B9-412E-888B-A39500FBD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0782-E4FA-448D-AC91-FC216E004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DA67-382B-46D4-A71C-DBA9AA31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89679-B272-4A3A-8B3F-1B95086E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475C-7C8D-40F7-96FD-0CF92E79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D086-34D9-46FA-BFC8-FF03BD6F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28D5-FA87-4214-BA4E-DFABC292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E3A7-1A14-4845-A190-43FFCB9C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3527-7641-401C-894D-C8466FF2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FD19-05F7-41B3-BB7D-4591B0DF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DCE8-3FD5-43EE-BFCD-8FF714FD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9E2C-F90B-40A8-8076-FC2DCEAD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5CA0-6F83-42D0-B6AE-7E3707AF9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89C92-7D2C-4B91-9971-536BB3B1F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76BE-23EA-4231-9A20-1DB54961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D083-C5FF-4185-B6B0-6A5E48FE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2670-0DA6-4768-81CD-58C39D14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30B9-730A-4B61-A724-0C9974B9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8AF1-F640-4C03-A8BE-65CF81EF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6B5D-6D1B-4539-8345-97E7B8F1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2113-FCC7-4875-8538-491CF165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733B-2D93-419C-BF09-04C727EF8CE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B81E-A87F-4E3A-9D01-B88E54C42D5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ositive &amp; Negative Numbers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ding and Subtracting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95280" y="228600"/>
            <a:ext cx="7543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What’s The Missing Number ?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8120" y="2057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) – 6 +         = 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29718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2)        +   10      =  –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3886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3) 12   –          =  – 2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4876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4)        –   14     =  – 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57150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5) 22  –          =  – 1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67080" y="2057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19720" y="3962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81280" y="4876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5715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9144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is a revision of number facts you already kno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600200"/>
            <a:ext cx="22860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Comple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70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me New Rules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1371600"/>
            <a:ext cx="7543800" cy="4597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What happens if you add a negative number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1981080"/>
            <a:ext cx="3733560" cy="4597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Consider the sum below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2819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95280" y="28195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0512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3505320"/>
            <a:ext cx="822960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Rule 1 : Adding a negative number is just the same as taking away that number. Hen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" y="4419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43000" y="4419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5120" y="4419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4419720"/>
            <a:ext cx="2514600" cy="459720"/>
          </a:xfrm>
          <a:prstGeom prst="rect">
            <a:avLst/>
          </a:prstGeom>
          <a:solidFill>
            <a:srgbClr val="66ff66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Is the same s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4419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5257800"/>
            <a:ext cx="617220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The same rule applies for taking away a positi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5943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 – + 8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90920" y="5943600"/>
            <a:ext cx="1981080" cy="4597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Is the same 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2920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 – 8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5943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btracting A Negative Number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066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ve judges have to give a score of between –10 and 10 in a ball throwing competi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2133720"/>
            <a:ext cx="4343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Here are the judges sco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2666880"/>
            <a:ext cx="9144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– </a:t>
            </a: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4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2971800"/>
            <a:ext cx="9144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6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95480" y="2743200"/>
            <a:ext cx="9144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– </a:t>
            </a: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7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91120" y="2743200"/>
            <a:ext cx="9144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3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562720" y="2743200"/>
            <a:ext cx="9144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– </a:t>
            </a: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2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3657600"/>
            <a:ext cx="304812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Add up the total scor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57600" y="3581280"/>
            <a:ext cx="685800" cy="5814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76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4343400"/>
            <a:ext cx="6934320" cy="4597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The rules say that the lowest  score is always remove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4952880"/>
            <a:ext cx="304812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What score is this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81280" y="4952880"/>
            <a:ext cx="9144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– </a:t>
            </a: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7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5867280"/>
            <a:ext cx="9144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– </a:t>
            </a: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4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71600" y="5791320"/>
            <a:ext cx="9144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6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438280" y="5867280"/>
            <a:ext cx="9144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3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05320" y="5867280"/>
            <a:ext cx="9144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– </a:t>
            </a: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2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81480" y="5181480"/>
            <a:ext cx="396252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Now add up the new tot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324480" y="5791320"/>
            <a:ext cx="914400" cy="5814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3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500"/>
                            </p:stCondLst>
                            <p:childTnLst>
                              <p:par>
                                <p:cTn id="21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500"/>
                            </p:stCondLst>
                            <p:childTnLst>
                              <p:par>
                                <p:cTn id="27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533520"/>
            <a:ext cx="7086600" cy="5814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76"/>
                </a:solidFill>
                <a:latin typeface="Times New Roman"/>
              </a:rPr>
              <a:t>Consider the sum below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1600200"/>
            <a:ext cx="144792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Old sc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81080" y="1600200"/>
            <a:ext cx="2743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Minus lowest sc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76920" y="1600200"/>
            <a:ext cx="25905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Equals new sco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2362320"/>
            <a:ext cx="5867640" cy="4597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Put the numbers in place of the stateme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3200400"/>
            <a:ext cx="685800" cy="5814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76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81080" y="3200400"/>
            <a:ext cx="5335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76"/>
                </a:solidFill>
                <a:latin typeface="Times New Roman"/>
              </a:rPr>
              <a:t>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3200400"/>
            <a:ext cx="9144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– </a:t>
            </a: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7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91120" y="3276720"/>
            <a:ext cx="457200" cy="4597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952880" y="3200400"/>
            <a:ext cx="609840" cy="5814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3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4038480"/>
            <a:ext cx="2057400" cy="4597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That is to say 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4724280"/>
            <a:ext cx="297180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76"/>
                </a:solidFill>
                <a:latin typeface="Times New Roman"/>
              </a:rPr>
              <a:t>– </a:t>
            </a:r>
            <a:r>
              <a:rPr b="0" lang="en-US" sz="3200" spc="-1" strike="noStrike">
                <a:solidFill>
                  <a:srgbClr val="003b76"/>
                </a:solidFill>
                <a:latin typeface="Times New Roman"/>
              </a:rPr>
              <a:t>4 – (  –  7 ) =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5410080"/>
            <a:ext cx="3124440" cy="5814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Which is the same a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76720" y="6095880"/>
            <a:ext cx="297180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76"/>
                </a:solidFill>
                <a:latin typeface="Times New Roman"/>
              </a:rPr>
              <a:t>– </a:t>
            </a:r>
            <a:r>
              <a:rPr b="0" lang="en-US" sz="3200" spc="-1" strike="noStrike">
                <a:solidFill>
                  <a:srgbClr val="003b76"/>
                </a:solidFill>
                <a:latin typeface="Times New Roman"/>
              </a:rPr>
              <a:t>4 + 7  =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533520" y="380880"/>
            <a:ext cx="769608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Rule 2 : Subtracting a negative is the same as adding the number 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43000" y="1600200"/>
            <a:ext cx="6400800" cy="581400"/>
          </a:xfrm>
          <a:prstGeom prst="rect">
            <a:avLst/>
          </a:prstGeom>
          <a:solidFill>
            <a:srgbClr val="66ff66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76"/>
                </a:solidFill>
                <a:latin typeface="Times New Roman"/>
              </a:rPr>
              <a:t>What a  good rule 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b76"/>
                </a:solidFill>
                <a:latin typeface="Arial"/>
              </a:rPr>
              <a:t>Some Worked Examples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1981080"/>
            <a:ext cx="1676160" cy="4597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Calculat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26668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( 1) 6 + - 7 =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26668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6 – 7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9880" y="2590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33526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( 2) 4 - - 9 =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90920" y="33526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4 + 9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32767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1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41148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( 3) -3 + - 7 =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666880" y="41148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-3 – 7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038480" y="40384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-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4952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( 4) 2 - + 5 =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49528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2 – 5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86200" y="49528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-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57913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( 5) -7 - - 7 =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66880" y="57913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-7 + 7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715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b76"/>
                </a:solidFill>
                <a:latin typeface="Arial"/>
              </a:rPr>
              <a:t>What Goes In The Box 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22096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 1) –  5 + – 6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3200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2) 6 + – 4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4191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3) 8 –  – 7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5257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4) – 3 – + 8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60958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5) 12 – (– 6 )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1600200"/>
            <a:ext cx="2133720" cy="4597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Is the same a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86400" y="1981080"/>
            <a:ext cx="312408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6400" y="2971800"/>
            <a:ext cx="312408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86400" y="3962520"/>
            <a:ext cx="3124080" cy="76176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86400" y="4952880"/>
            <a:ext cx="312408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86400" y="5867280"/>
            <a:ext cx="312408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86400" y="1981080"/>
            <a:ext cx="160020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5 – 6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486400" y="3048120"/>
            <a:ext cx="1600200" cy="76176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6 – 4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86400" y="3962520"/>
            <a:ext cx="1600200" cy="76176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8 + 7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86400" y="4952880"/>
            <a:ext cx="160020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3 – 8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86400" y="5867280"/>
            <a:ext cx="160020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Times New Roman"/>
              </a:rPr>
              <a:t>12 + 6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15200" y="2057400"/>
            <a:ext cx="990720" cy="609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315200" y="3048120"/>
            <a:ext cx="990720" cy="609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315200" y="4038480"/>
            <a:ext cx="990720" cy="6098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315200" y="5029200"/>
            <a:ext cx="990720" cy="609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315200" y="5943600"/>
            <a:ext cx="990720" cy="609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4380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54380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4674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467480" y="5105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467480" y="6019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3500"/>
                            </p:stCondLst>
                            <p:childTnLst>
                              <p:par>
                                <p:cTn id="5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0"/>
                            </p:stCondLst>
                            <p:childTnLst>
                              <p:par>
                                <p:cTn id="52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6500"/>
                            </p:stCondLst>
                            <p:childTnLst>
                              <p:par>
                                <p:cTn id="53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8000"/>
                            </p:stCondLst>
                            <p:childTnLst>
                              <p:par>
                                <p:cTn id="53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9500"/>
                            </p:stCondLst>
                            <p:childTnLst>
                              <p:par>
                                <p:cTn id="54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1000"/>
                            </p:stCondLst>
                            <p:childTnLst>
                              <p:par>
                                <p:cTn id="54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2500"/>
                            </p:stCondLst>
                            <p:childTnLst>
                              <p:par>
                                <p:cTn id="55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000"/>
                            </p:stCondLst>
                            <p:childTnLst>
                              <p:par>
                                <p:cTn id="59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3500"/>
                            </p:stCondLst>
                            <p:childTnLst>
                              <p:par>
                                <p:cTn id="60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5000"/>
                            </p:stCondLst>
                            <p:childTnLst>
                              <p:par>
                                <p:cTn id="60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6500"/>
                            </p:stCondLst>
                            <p:childTnLst>
                              <p:par>
                                <p:cTn id="61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3T17:17:04Z</dcterms:created>
  <dc:creator>LT Scotland</dc:creator>
  <dc:description/>
  <dc:language>en-US</dc:language>
  <cp:lastModifiedBy>2000profile</cp:lastModifiedBy>
  <dcterms:modified xsi:type="dcterms:W3CDTF">2008-12-10T12:06:13Z</dcterms:modified>
  <cp:revision>27</cp:revision>
  <dc:subject/>
  <dc:title>Positive &amp; Negative Numbers 2.</dc:title>
</cp:coreProperties>
</file>